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BA8-9BC1-4770-8663-53B94333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49C-7702-4BE0-B8F3-32681AB5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155-0C02-4C12-AC48-B702927C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574-5BE4-4953-B065-48DF653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C87-C00F-4E56-AB83-CC272020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ADE-AFFC-4E2F-AD67-E77087C1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982-0903-47F2-AE43-7CD43C4A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32F-D9B7-4EF5-A6CA-908D39A7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CF0-B161-46E2-99A9-88F0942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6CB-B389-4444-AB6E-6D5F7EE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92E-F667-4224-8E5C-DF859D98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FBF-7804-4CAF-82A3-40EAA7C9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FC80-6707-42A3-BF07-36FAA6A6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2 Už otvorte sa, krídla b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otvorte sa, krídla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môže vo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Kráľ a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večný Vládca víťaz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chranca náš všemoc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ojde slávny Hrdi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jeho veľká, bezmedzn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plnosť krásy, svät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arca všetk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Kristus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lásky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človek nikdy nie j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n dom 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šetci túžia s Páno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rdce jemu otvor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áskou k nemu zaho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 večne bývať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bdarí ho spas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pasiteľ náš drahý, prí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obraz 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obnov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oviesť nás do slávy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š si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a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3T07:29:20Z</dcterms:modified>
  <cp:revision>8</cp:revision>
  <dc:subject/>
  <dc:title>Je veľký náš Pán, on slávy je Kráľ Nech do všetkých strán  spev vrúcnych znie chvál.</dc:title>
</cp:coreProperties>
</file>